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9E6D-8EA6-41B4-90D6-E4086EDAC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1E9C-3EF0-4968-834E-9118012ED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5713-6715-484C-ADAD-CEA0948C9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3481-6B05-467A-A7FB-5A1C60228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CD09-97EB-46BC-832F-08C170AA1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AA76-C0CA-4315-8F98-F07D508CA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0540-C5B2-4608-87E6-E458F597B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D3F4-E13F-4DF8-89AD-1544EF2AF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37C6-4333-4610-AD79-840955FA6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FFC8-77A8-4F5B-A7BD-C6E22525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8945-5D30-4EE6-AD7C-CDED6597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1BE9-1079-4559-9AA1-4698B333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3512F-C5EC-4EE8-A817-035EB32BE5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9600" y="663480"/>
            <a:ext cx="1676520" cy="998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4648320"/>
            <a:ext cx="1067040" cy="99036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5960" y="1700280"/>
            <a:ext cx="1066680" cy="990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2666880"/>
            <a:ext cx="1067040" cy="990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3657600"/>
            <a:ext cx="1067040" cy="99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5638680"/>
            <a:ext cx="1067040" cy="99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pyrus"/>
              </a:rPr>
              <a:t>1195 A.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pyrus"/>
              </a:rPr>
              <a:t>Aztecs settl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pyrus"/>
              </a:rPr>
              <a:t>Valley of Mex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pyrus"/>
              </a:rPr>
              <a:t>Move ahead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92360" y="5656320"/>
            <a:ext cx="1066680" cy="990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5638680"/>
            <a:ext cx="1066680" cy="99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9880" y="5638680"/>
            <a:ext cx="1067040" cy="99072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76920" y="5638680"/>
            <a:ext cx="1066680" cy="99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76920" y="4648320"/>
            <a:ext cx="1066680" cy="990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76920" y="3657600"/>
            <a:ext cx="1066680" cy="99072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879800" y="2660760"/>
            <a:ext cx="1067040" cy="990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9800" y="1662120"/>
            <a:ext cx="1067040" cy="99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pyrus"/>
              </a:rPr>
              <a:t>Lose tlacht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pyrus"/>
              </a:rPr>
              <a:t>Move back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876920" y="685800"/>
            <a:ext cx="1066680" cy="99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943600" y="685800"/>
            <a:ext cx="1066680" cy="990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010280" y="685800"/>
            <a:ext cx="1067040" cy="99072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077320" y="685800"/>
            <a:ext cx="1066680" cy="99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730520" y="3313080"/>
            <a:ext cx="3014640" cy="65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Papyrus"/>
              </a:rPr>
              <a:t>The Aztecs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Papyrus"/>
              <a:ea typeface="Papyru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146640" y="2776680"/>
            <a:ext cx="2819520" cy="1600200"/>
            <a:chOff x="6146640" y="2776680"/>
            <a:chExt cx="2819520" cy="1600200"/>
          </a:xfrm>
        </p:grpSpPr>
        <p:sp>
          <p:nvSpPr>
            <p:cNvPr id="61" name=""/>
            <p:cNvSpPr/>
            <p:nvPr/>
          </p:nvSpPr>
          <p:spPr>
            <a:xfrm>
              <a:off x="6222960" y="3081240"/>
              <a:ext cx="259056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Papyrus"/>
                </a:rPr>
                <a:t>Game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Papyrus"/>
                </a:rPr>
                <a:t>Card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146640" y="2776680"/>
              <a:ext cx="2819520" cy="1600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8839080" y="892080"/>
            <a:ext cx="914400" cy="60984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344680" y="10476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837480" y="5388120"/>
            <a:ext cx="1744560" cy="9363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15960" y="1662120"/>
            <a:ext cx="10000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pyrus"/>
              </a:rPr>
              <a:t>1111 A.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pyrus"/>
              </a:rPr>
              <a:t>Leave Azt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pyrus"/>
              </a:rPr>
              <a:t>Move ahead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2728800" y="5656320"/>
            <a:ext cx="1036800" cy="960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4879800" y="5656320"/>
            <a:ext cx="1036800" cy="9604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594320" y="4811760"/>
            <a:ext cx="1582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pyrus"/>
              </a:rPr>
              <a:t>1325 A.D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pyrus"/>
              </a:rPr>
              <a:t>Build Tenochtit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pyrus"/>
              </a:rPr>
              <a:t>Move ahead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615960" y="3659040"/>
            <a:ext cx="1036800" cy="960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4917960" y="3659040"/>
            <a:ext cx="1036800" cy="9604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7029360" y="701640"/>
            <a:ext cx="103680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685800"/>
            <a:ext cx="1066680" cy="99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76400" y="3621240"/>
            <a:ext cx="1066680" cy="990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66680" y="685800"/>
            <a:ext cx="1067040" cy="990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1676520"/>
            <a:ext cx="1067040" cy="99036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66680" y="2666880"/>
            <a:ext cx="1067040" cy="99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66680" y="4648320"/>
            <a:ext cx="1067040" cy="990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66680" y="5638680"/>
            <a:ext cx="1067040" cy="99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pyrus"/>
              </a:rPr>
              <a:t>1502 A.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pyrus"/>
              </a:rPr>
              <a:t>Montezum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pyrus"/>
              </a:rPr>
              <a:t>becomes empe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pyrus"/>
              </a:rPr>
              <a:t>Move ahead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5638680"/>
            <a:ext cx="1066680" cy="99072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0400" y="5638680"/>
            <a:ext cx="1066680" cy="990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67080" y="5638680"/>
            <a:ext cx="1067040" cy="99072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4648320"/>
            <a:ext cx="1067040" cy="990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267080" y="3657600"/>
            <a:ext cx="1067040" cy="99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pyrus"/>
              </a:rPr>
              <a:t>Tribe conqu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pyrus"/>
              </a:rPr>
              <a:t>Must pay t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pyrus"/>
              </a:rPr>
              <a:t>Move back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pyru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67080" y="2666880"/>
            <a:ext cx="1067040" cy="99072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267080" y="1676520"/>
            <a:ext cx="1067040" cy="990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pyrus"/>
              </a:rPr>
              <a:t>Corn, bean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pyrus"/>
              </a:rPr>
              <a:t>peppers, potat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pyrus"/>
              </a:rPr>
              <a:t>grow w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pyrus"/>
              </a:rPr>
              <a:t>Move ahead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267080" y="685800"/>
            <a:ext cx="1067040" cy="99072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34120" y="685800"/>
            <a:ext cx="1066680" cy="990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685800"/>
            <a:ext cx="1066680" cy="99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pyrus"/>
              </a:rPr>
              <a:t>1519 A.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pyrus"/>
              </a:rPr>
              <a:t>Cortes arr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pyrus"/>
              </a:rPr>
              <a:t>Go back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467480" y="685800"/>
            <a:ext cx="1067040" cy="99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45280" y="3659040"/>
            <a:ext cx="1676520" cy="9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491240" y="2660760"/>
            <a:ext cx="1067040" cy="99036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1676520"/>
            <a:ext cx="1067040" cy="990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114640" y="2660760"/>
            <a:ext cx="1066680" cy="990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00400" y="2666880"/>
            <a:ext cx="1066680" cy="99072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362320" y="2895480"/>
            <a:ext cx="685800" cy="533520"/>
          </a:xfrm>
          <a:prstGeom prst="rightArrow">
            <a:avLst>
              <a:gd name="adj1" fmla="val 50000"/>
              <a:gd name="adj2" fmla="val 3213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29000" y="2895480"/>
            <a:ext cx="685800" cy="533520"/>
          </a:xfrm>
          <a:prstGeom prst="rightArrow">
            <a:avLst>
              <a:gd name="adj1" fmla="val 50000"/>
              <a:gd name="adj2" fmla="val 3213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910800" y="4849920"/>
            <a:ext cx="1187280" cy="14475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-457200" y="898560"/>
            <a:ext cx="914400" cy="609480"/>
          </a:xfrm>
          <a:prstGeom prst="rightArrow">
            <a:avLst>
              <a:gd name="adj1" fmla="val 50000"/>
              <a:gd name="adj2" fmla="val 37507"/>
            </a:avLst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306520" y="3774960"/>
            <a:ext cx="1766880" cy="17668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6799320" y="4849920"/>
            <a:ext cx="2149560" cy="18669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038240" y="3851280"/>
            <a:ext cx="11905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pyrus"/>
              </a:rPr>
              <a:t>1440 A.D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pyrus"/>
              </a:rPr>
              <a:t>Montezuma rules Azte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pyrus"/>
              </a:rPr>
              <a:t>Move ahead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1076400" y="701640"/>
            <a:ext cx="1036440" cy="9604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1076400" y="4657680"/>
            <a:ext cx="1036440" cy="960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6"/>
          <a:stretch/>
        </p:blipFill>
        <p:spPr>
          <a:xfrm>
            <a:off x="4303800" y="5656320"/>
            <a:ext cx="1036440" cy="9604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7"/>
          <a:stretch/>
        </p:blipFill>
        <p:spPr>
          <a:xfrm>
            <a:off x="4264200" y="701640"/>
            <a:ext cx="1036440" cy="9604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8"/>
          <a:stretch/>
        </p:blipFill>
        <p:spPr>
          <a:xfrm>
            <a:off x="7451640" y="1700280"/>
            <a:ext cx="103680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5T02:40:31Z</dcterms:created>
  <dc:creator>Connie Campbell</dc:creator>
  <dc:description/>
  <dc:language>en-US</dc:language>
  <cp:lastModifiedBy>Kathy</cp:lastModifiedBy>
  <dcterms:modified xsi:type="dcterms:W3CDTF">2010-04-16T21:03:08Z</dcterms:modified>
  <cp:revision>13</cp:revision>
  <dc:subject/>
  <dc:title>Slide 1</dc:title>
</cp:coreProperties>
</file>